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6F98-3167-4572-93C8-41467C3B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C36-694F-4C5D-A302-BC336F6F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95D6-01CE-42DD-97A9-5F704667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DA68-5213-4781-B4EF-1A7BAE3E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2623-9738-4E7E-8D1D-D3D12D0B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38A5-0E7C-4D34-BD55-B08CF867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A554-6E63-4F0C-BF10-E3777D56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6C3C-27A8-4CE5-980C-D5A0AE4F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A7D7-C77C-4983-9B0F-BEDF57EB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B285-8FE2-47BD-B87B-6EED4AF3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001C-40C6-49BB-AFAD-E8A3E4DB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4D6E-9324-45D0-B3B8-FF831596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B8F5-BB0A-4528-A92C-246A6C80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07C2-6F13-4CDE-A6B5-2D0725EB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418B-8AA6-46C7-956F-4CD47EDA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A7D9-33F1-421B-A6CA-5CD88769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48FF-1C32-4C3F-8D65-362660BC0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F8D9-42D1-4933-B02B-7875FC60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F4C5-A26A-49EC-B8EA-C3A71849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A4B8-629D-476B-8119-B66051ED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C1DE-2E18-447A-BB39-DD08CF6B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BCE5-7118-4218-B25E-A6D84FBE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881B-ABF6-4F82-8A7E-03BC1358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45EF-D91E-490C-BA19-BEAE9C2F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3EA6-E7EA-45E2-95DE-44704A204F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11F3-3F72-48AE-B1F4-AFDF19B11F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752480" y="0"/>
            <a:ext cx="5588280" cy="6040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5400" y="6064920"/>
            <a:ext cx="5097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Чем заканчиваются времена московского государства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ак называется следующий отрезок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ка делает крутой поворот. С чьим именем это связано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838080"/>
            <a:ext cx="422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ang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академи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геро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мореплаватель,                        то плот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Он всеобъемлющей душ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На троне вечный был рабо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А.С.Пуш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img3"/>
          <p:cNvPicPr/>
          <p:nvPr/>
        </p:nvPicPr>
        <p:blipFill>
          <a:blip r:embed="rId1"/>
          <a:stretch/>
        </p:blipFill>
        <p:spPr>
          <a:xfrm>
            <a:off x="5257800" y="914400"/>
            <a:ext cx="334332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914400" y="152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ётр Пер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038840" cy="4494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60" y="6505200"/>
            <a:ext cx="39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ие преобразования задумал Петр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45440" cy="47196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4"/>
          <p:cNvSpPr txBox="1"/>
          <p:nvPr/>
        </p:nvSpPr>
        <p:spPr>
          <a:xfrm>
            <a:off x="1447920" y="304920"/>
            <a:ext cx="617364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а армия </a:t>
            </a:r>
            <a:endParaRPr b="1" lang="en-US" sz="44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rcRect l="0" t="2083" r="0" b="0"/>
          <a:stretch/>
        </p:blipFill>
        <p:spPr>
          <a:xfrm>
            <a:off x="914400" y="1905120"/>
            <a:ext cx="349740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rcRect l="0" t="2322" r="4190" b="2322"/>
          <a:stretch/>
        </p:blipFill>
        <p:spPr>
          <a:xfrm>
            <a:off x="4572000" y="2666880"/>
            <a:ext cx="4191120" cy="3124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"/>
          <p:cNvSpPr txBox="1"/>
          <p:nvPr/>
        </p:nvSpPr>
        <p:spPr>
          <a:xfrm>
            <a:off x="1692360" y="620640"/>
            <a:ext cx="55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ромышленност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6324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 вы думаете, могут ли преобразования обходиться легко для народа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985080" cy="451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1676520" y="380880"/>
            <a:ext cx="5543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 флот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3"/>
          <p:cNvSpPr txBox="1"/>
          <p:nvPr/>
        </p:nvSpPr>
        <p:spPr>
          <a:xfrm>
            <a:off x="539640" y="228600"/>
            <a:ext cx="770436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ссия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вратилась 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льнейшее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сударство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5334120" y="3962520"/>
            <a:ext cx="2971800" cy="2219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19720" y="2285640"/>
            <a:ext cx="49528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Андреевский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 флаг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1640" y="4191120"/>
            <a:ext cx="3675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rcRect l="7702" t="20522" r="7702" b="25653"/>
          <a:stretch/>
        </p:blipFill>
        <p:spPr>
          <a:xfrm>
            <a:off x="609480" y="1905120"/>
            <a:ext cx="3353040" cy="2133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-228600" y="304920"/>
            <a:ext cx="49528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Российск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фла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3048120" y="1676520"/>
            <a:ext cx="3047760" cy="339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2533680" cy="2819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6324480" y="3505320"/>
            <a:ext cx="2533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  <a:ea typeface="Arial"/>
              </a:rPr>
              <a:t>Академия наук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48002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Основана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725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 году по распоряжению Петра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I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.                                                                                      Она называлась Императорская академия наук и художеств</a:t>
            </a:r>
            <a:r>
              <a:rPr b="1" i="1" lang="ru-RU" sz="3200" spc="-1" strike="noStrike">
                <a:solidFill>
                  <a:srgbClr val="ffcc66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rcRect l="0" t="0" r="0" b="32828"/>
          <a:stretch/>
        </p:blipFill>
        <p:spPr>
          <a:xfrm>
            <a:off x="2057400" y="1752480"/>
            <a:ext cx="5181480" cy="259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8:52:5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