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3.png" ContentType="image/png"/>
  <Override PartName="/ppt/media/image26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7.png" ContentType="image/png"/>
  <Override PartName="/ppt/media/image9.png" ContentType="image/png"/>
  <Override PartName="/ppt/media/image30.jpeg" ContentType="image/jpeg"/>
  <Override PartName="/ppt/media/image23.jpeg" ContentType="image/jpeg"/>
  <Override PartName="/ppt/media/image1.jpeg" ContentType="image/jpeg"/>
  <Override PartName="/ppt/media/image10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2.jpeg" ContentType="image/jpeg"/>
  <Override PartName="/ppt/media/image20.png" ContentType="image/png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A812-B885-4B53-8AF5-44E08FAA7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FA59-5C48-4FAE-8957-50010270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D7A939-CC0B-4999-8265-91DDFC84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75EB2F-AB94-412E-8CC5-A58E9BB8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420005-D214-4E3F-815E-1AD5B14B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99660-E352-4F19-B2BB-A3E547E3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9D750-4A9A-48F9-91F3-92E86900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7EEE47-8D42-473E-8A93-8C37EFB5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150C10-BAEB-4DED-8C37-5DF10704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1CC5DE-E1AF-4C19-B12F-BD0E838F1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222660-3CBC-4687-B279-F25724ADA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7C03F0-6913-4757-B480-AA7A605B6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BFF2-8EEB-48B7-96B8-B2653F07C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0456B0-8CE6-4A32-B2F8-443A3542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E2646F-40CF-4091-B325-D0EB30BA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51B4ED-C7DF-485E-BD9C-5C62E984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BAB791-268E-418B-8551-D86166FE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5C8B31-D523-42EB-AD80-6DBC9158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9557F0-F3C9-4868-90C6-3CF1B98B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BA7D3-519F-4FAE-9FF1-32087FCF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986A6B-1DD2-4A94-812A-1ED3DDE9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0E3128-EE98-46ED-9F5F-83BA81BC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1F6852-1572-41BD-89EC-B213CEFF9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FFE2-9FD7-4BC5-A9F7-7FC4EE020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B7562D-CD55-4D37-AE57-03687A5B1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0C30B2-381E-4E9A-8B44-966056E1C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F7B4C0-96E9-48B8-AE05-AF80A4AE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65961-EAB7-4009-9850-BC2CCAA3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4367B-085A-4448-83D3-FD9CF9B9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49E04-B8D4-4723-AEDA-2C689DBB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E30C7E-1810-472E-8A6F-C3F844CC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239A9-BF0A-46C5-A2C6-9BBFE8C4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79A027-1B75-4107-B144-EB421813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619D2-E494-41FB-9126-9D6B6472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E92FD-182A-45F9-971D-875A4B949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F52EFB-A7E9-428D-8FC5-C0C105AB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5EB74-CAB8-442D-B105-C44A2F7B2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6FB2E-0111-4B88-A59E-1BD6BE465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FAE006-E867-4BC8-8FF8-2CC4F5141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4A721E-4EBA-4996-90BB-BE20DA1F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15C955-6054-4CC7-8B92-3FB3705E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1DEF35-15D4-415D-A034-96FEC19E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1493D1-C19E-486B-8994-9AA0826C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F4F61A-210A-41A9-BDD1-B7CACE8E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D32F80-B2CA-49D9-8CE2-E4AAC497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BC92-478A-48B8-930D-FF516D0B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A6E154-E650-4737-A16A-12327DCD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351551-F17B-4CC6-A35A-33615489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4B56C7-F0FD-46CB-8C9E-002EF274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7E492D-841F-4C78-91EF-8DEA8CEE6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48D280-F6A7-46DA-B04B-74D5F77B4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EB33A3-D88E-4E94-9EA1-D05C511DA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E86615-F2A3-44B5-8B3A-B2F8AF33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CB4780-41E6-454A-9AF4-85653B6C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1B7E29-3816-4DEE-BEA7-73671BA7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642CA3-4A11-4A0B-932C-16392B3A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B81D-52DB-410F-A617-FC83756B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8D9EE2-28FE-4DD4-A261-37ED36E2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CE7E2C-8394-4C24-8EC2-A48E2BBF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372E30-E69F-4E51-AB01-694E2264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6AE099-3EAF-4A4F-ACF5-914BE4E0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F39D48-C05A-4A40-9BFB-1244A015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3F461C-121C-4BA1-B0B8-7049A5641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E1C3F8-D4BA-4E78-92B5-A3DAEE276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830F6F-966E-4DB4-98D8-FC55E4EEF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5094FA-E3D2-4F8F-ABDB-EC88E661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AF517F-6A69-42EE-8640-20E73AE1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456A7-6CE9-4EFE-AEE6-7D572BAD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13A3DA-D814-42F2-9ECA-1E9EF74A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8D6FDB-E5DD-40CB-88D3-18D16173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B19097-78A0-4F27-9675-9E66532A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D1251A-A4EE-43B4-92BE-5EDE36D7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CDC4D4-0308-459E-A594-81A85617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EEC212-3A96-434C-9742-994D92A0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C3105C-870B-469B-9A22-45C7E737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E1685C-D0B8-4327-AB1C-147EFE863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65AD6A-EC45-46F3-A9BC-681E02E38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54AC6-0B5F-44B5-B2F7-33D6E639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1D89-68B3-41F9-8349-8BBD27E9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7B49-BF89-4457-B2C4-DF0C650C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D1D4-1FAC-462C-AAED-EAC0B778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A888-173D-4442-88BE-963CF9DC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8396-3998-485F-A0D1-C40E39CA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5AD5-C7D7-4343-ABBE-9AB41056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7436-ED9E-4D28-B7E6-0394F9907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D334-045D-46E4-BE13-37825E355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758C7-A13A-4A4C-8AA0-9CDAF9A70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33DFB-AC40-487C-BC17-C40AC772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CBF44-DBC8-4483-AE72-00220926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1BF7B-A59B-4A15-85D9-57867245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6EA6A-D78C-4E78-B49E-FC05F102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0750-10DD-4F44-8004-92BEB0CD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59E43-E91B-45D5-A7AC-334A7B10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5C44E-DCB0-4F15-87DB-B5086DF6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F9432-A105-45F8-831C-62FFC1B7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F49AB-93E4-4EBB-BF4D-418D1637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E8407-E650-4C9D-8ECA-D77EFC56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D0F47-3058-4016-85DE-625D8E53B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38A08-2ADD-42E5-B9FB-76062A2C3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ECABA-21B4-41BB-950D-0674C99D4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8BFDE-C082-49AF-B989-9DF09386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8F74E-2EFE-4470-9EA2-7805C12D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653D-30A5-40F9-8D89-421D51A7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04281-BBF1-4941-87FD-61E0922C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ABE9D-E0F3-4BD2-8CCF-4551EB19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FEA6B-AE48-4144-ACF4-2504FEBE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3E348-2569-4173-BDDA-CDE57866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4B850-155F-4E7E-B23A-548B959E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D0758-262E-45C9-A489-4E559AF2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D9857-BCA1-403D-943A-DFBC366A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9328F-AF66-4C46-BCA1-0807701C1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BFF2D-2B2E-4FE0-828F-368ABB80A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80C39-B5AC-4340-BCA9-E99C0A304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150A-8ECE-488E-981D-0CB344B2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16615-2D4F-4B52-8809-129A9CB7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E6216-B9D8-40D7-9BC2-9061E403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D6D8A-81B8-4A47-A9F6-266FE60B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69D9D-4F6A-4C7A-9630-EF693A87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22C8F-04CD-48C4-90C2-E623A0F8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3BECC-7227-4DEE-B87E-32D36F33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865A9-446F-420C-9D20-42987FC1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764C9-2981-47A4-A023-409B3670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51433-19D7-4520-8E60-44C1901F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2E251-2CA9-4D47-8974-E193BF3B7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9B55-492F-44E4-9342-BE58AE70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75A6E-B820-45CD-8470-170154AC1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78949-22CA-4CFB-AB76-846693346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45E53-2787-4DBB-BC2A-7CAC3F12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C5440-E849-4703-BC25-886576A2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BD025-DF31-40C5-9FCF-C7FEA1E3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113CB-B70D-4406-A48C-0C73EF45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581FE-507A-41BC-A882-0604FF78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FB6FB-AB17-4E3E-BD94-B141AAD4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8CD96-7E70-417F-A983-7844088F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D14DA-B11B-4CCA-B38C-407139D8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27B3-65C6-417B-ADEE-08E3640E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67DDE-4FC0-419B-BC05-41B6F40D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FD9A5-A839-4756-B5E3-542BCA7F1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E67D9-51FE-466C-A5B0-199225B13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D4DFB-DCFD-41E2-B7F9-B3A7844A2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B5069-48FB-4357-BFBC-1951ADB1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1A161-03AF-4EC4-83CF-A8E02029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1613F-94F6-4F1E-84D8-D4347E26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95971-749E-4029-9C5D-C6F16815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13312-2B47-489B-BCA4-79580426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E1F5C-B03E-4520-9DA9-046A9FA8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4E0E-22F3-4EA0-95DA-9E4C609B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CCF94-2426-45F8-B9C0-8D97F173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7340D-ED9E-4658-967F-3C9ADC7E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FB448-1B17-4B53-B428-DDB9D34A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B8739-C777-44C8-925D-1F67E85A1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93190-0D74-4C7A-840D-D8EC5596C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FE469-66C3-4551-8026-ED74374EF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65F55-FB5E-43E5-BCEF-D539E5E7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69C7F-80D4-402F-8879-0E99D214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A1E86-D3D3-457E-A532-D347D2C9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353A0-7991-4AE4-9AED-A2CFE1F1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FB44-0E75-4FC9-858B-833E16E9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81E21-D64F-4134-9C74-9A635A59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5B469-62AB-49AF-B6DC-D8ACF85E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6305D-1605-49A3-BEF8-C700E075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92068-0976-499F-B7CD-AF78132C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3764C-60C6-4909-A7D6-513E4902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FD730-B18F-459C-BE95-32E3DC46B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CE1D8-3DB4-4BA6-AEF8-FD2EC319F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585D22-1D3D-406C-988B-7B5D9E149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4913CD-CFEF-465A-8933-1B446A18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8F4F7A-B685-4ADD-81A2-A8BE7232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615B-C1A3-4DF9-B8F8-59E451B522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9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0A22-E98D-4A5E-97F1-6BAE565443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45F4-45D1-457B-ACAC-739FA80577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073A-AF36-45B5-9B7D-8836EC5FA4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D25F-8C70-41BF-B6D6-93B6347687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4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4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4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FD48-4E57-4150-AA07-191F908CD24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C506-EE35-46F3-978A-2645DB010B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6452-DC36-4A85-8BBB-654322C3FC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C415-00E8-487E-B1DF-0C080BF70B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38C0-B73F-4439-B07A-742B5D0ED4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FE36-C3F1-477D-A560-6953A45F66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D101-76CD-40F5-8FFD-B1EAC53DCC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444E-54FF-45E8-9011-8AF14161BD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7019-7C96-40A9-8650-541E6A9718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4" descr="река времени"/>
          <p:cNvPicPr/>
          <p:nvPr/>
        </p:nvPicPr>
        <p:blipFill>
          <a:blip r:embed="rId1">
            <a:lum bright="-12000"/>
          </a:blip>
          <a:srcRect l="4724" t="10366" r="7874" b="6695"/>
          <a:stretch/>
        </p:blipFill>
        <p:spPr>
          <a:xfrm>
            <a:off x="1523880" y="0"/>
            <a:ext cx="634392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Rectangle 3"/>
          <p:cNvSpPr/>
          <p:nvPr/>
        </p:nvSpPr>
        <p:spPr>
          <a:xfrm>
            <a:off x="0" y="64904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аких исторических событий начались времена Московского государств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WordArt 2"/>
          <p:cNvSpPr txBox="1"/>
          <p:nvPr/>
        </p:nvSpPr>
        <p:spPr>
          <a:xfrm>
            <a:off x="2743200" y="45720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7" name="Picture 3" descr="krestyanin"/>
          <p:cNvPicPr/>
          <p:nvPr/>
        </p:nvPicPr>
        <p:blipFill>
          <a:blip r:embed="rId3"/>
          <a:stretch/>
        </p:blipFill>
        <p:spPr>
          <a:xfrm>
            <a:off x="1981080" y="1219320"/>
            <a:ext cx="6120000" cy="469404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5"/>
          <p:cNvSpPr/>
          <p:nvPr/>
        </p:nvSpPr>
        <p:spPr>
          <a:xfrm>
            <a:off x="0" y="5693040"/>
            <a:ext cx="3505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Сообщение по плану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 называется групп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жили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Чем занимались люди этой группы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Значение группы для государст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WordArt 2"/>
          <p:cNvSpPr txBox="1"/>
          <p:nvPr/>
        </p:nvSpPr>
        <p:spPr>
          <a:xfrm>
            <a:off x="2209680" y="457200"/>
            <a:ext cx="2971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бояр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0" name="Picture 5" descr="mod67_1_9"/>
          <p:cNvPicPr/>
          <p:nvPr/>
        </p:nvPicPr>
        <p:blipFill>
          <a:blip r:embed="rId3"/>
          <a:stretch/>
        </p:blipFill>
        <p:spPr>
          <a:xfrm>
            <a:off x="228600" y="2286000"/>
            <a:ext cx="4809960" cy="30481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6" descr=""/>
          <p:cNvPicPr/>
          <p:nvPr/>
        </p:nvPicPr>
        <p:blipFill>
          <a:blip r:embed="rId4"/>
          <a:stretch/>
        </p:blipFill>
        <p:spPr>
          <a:xfrm>
            <a:off x="5105520" y="1676520"/>
            <a:ext cx="38811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WordArt 2"/>
          <p:cNvSpPr txBox="1"/>
          <p:nvPr/>
        </p:nvSpPr>
        <p:spPr>
          <a:xfrm>
            <a:off x="2286000" y="380880"/>
            <a:ext cx="417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дворян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3" name="Picture 3" descr="ris014"/>
          <p:cNvPicPr/>
          <p:nvPr/>
        </p:nvPicPr>
        <p:blipFill>
          <a:blip r:embed="rId3"/>
          <a:stretch/>
        </p:blipFill>
        <p:spPr>
          <a:xfrm>
            <a:off x="2286000" y="1495440"/>
            <a:ext cx="398160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0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WordArt 2"/>
          <p:cNvSpPr txBox="1"/>
          <p:nvPr/>
        </p:nvSpPr>
        <p:spPr>
          <a:xfrm>
            <a:off x="2362320" y="53352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ельцы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5" name="Picture 4" descr="strelec2s"/>
          <p:cNvPicPr/>
          <p:nvPr/>
        </p:nvPicPr>
        <p:blipFill>
          <a:blip r:embed="rId3"/>
          <a:stretch/>
        </p:blipFill>
        <p:spPr>
          <a:xfrm>
            <a:off x="4572000" y="1371600"/>
            <a:ext cx="4191120" cy="46324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6" descr=""/>
          <p:cNvPicPr/>
          <p:nvPr/>
        </p:nvPicPr>
        <p:blipFill>
          <a:blip r:embed="rId4"/>
          <a:stretch/>
        </p:blipFill>
        <p:spPr>
          <a:xfrm>
            <a:off x="228600" y="1371600"/>
            <a:ext cx="4176720" cy="4648320"/>
          </a:xfrm>
          <a:prstGeom prst="rect">
            <a:avLst/>
          </a:prstGeom>
          <a:ln w="0">
            <a:noFill/>
          </a:ln>
        </p:spPr>
      </p:pic>
      <p:sp>
        <p:nvSpPr>
          <p:cNvPr id="627" name="Rectangle 6"/>
          <p:cNvSpPr/>
          <p:nvPr/>
        </p:nvSpPr>
        <p:spPr>
          <a:xfrm>
            <a:off x="1872360" y="6475680"/>
            <a:ext cx="53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Какие категории граждан населяли Московское государство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WordArt 2"/>
          <p:cNvSpPr txBox="1"/>
          <p:nvPr/>
        </p:nvSpPr>
        <p:spPr>
          <a:xfrm>
            <a:off x="1371600" y="152280"/>
            <a:ext cx="62485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фрагмент памятника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вану Федорову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9" name="Picture 3" descr="6"/>
          <p:cNvPicPr/>
          <p:nvPr/>
        </p:nvPicPr>
        <p:blipFill>
          <a:blip r:embed="rId5"/>
          <a:stretch/>
        </p:blipFill>
        <p:spPr>
          <a:xfrm>
            <a:off x="1905120" y="1523880"/>
            <a:ext cx="5340240" cy="4500720"/>
          </a:xfrm>
          <a:prstGeom prst="rect">
            <a:avLst/>
          </a:prstGeom>
          <a:ln w="0">
            <a:noFill/>
          </a:ln>
        </p:spPr>
      </p:pic>
      <p:sp>
        <p:nvSpPr>
          <p:cNvPr id="630" name="Rectangle 5"/>
          <p:cNvSpPr/>
          <p:nvPr/>
        </p:nvSpPr>
        <p:spPr>
          <a:xfrm>
            <a:off x="-2160" y="6216840"/>
            <a:ext cx="856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О каком замечательном научном изобретении прочитали? Кому оно принадлежит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Подумайте, какое значение имело для жителей Московского государства начало книгопечатания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WordArt 2"/>
          <p:cNvSpPr txBox="1"/>
          <p:nvPr/>
        </p:nvSpPr>
        <p:spPr>
          <a:xfrm>
            <a:off x="349200" y="304920"/>
            <a:ext cx="426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аница "Апостола"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32" name="Picture 3" descr="апостол"/>
          <p:cNvPicPr/>
          <p:nvPr/>
        </p:nvPicPr>
        <p:blipFill>
          <a:blip r:embed="rId3"/>
          <a:stretch/>
        </p:blipFill>
        <p:spPr>
          <a:xfrm>
            <a:off x="304920" y="1523880"/>
            <a:ext cx="3238560" cy="511344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5" descr="азбука"/>
          <p:cNvPicPr/>
          <p:nvPr/>
        </p:nvPicPr>
        <p:blipFill>
          <a:blip r:embed="rId4"/>
          <a:stretch/>
        </p:blipFill>
        <p:spPr>
          <a:xfrm>
            <a:off x="3657600" y="2438280"/>
            <a:ext cx="5181480" cy="4213440"/>
          </a:xfrm>
          <a:prstGeom prst="rect">
            <a:avLst/>
          </a:prstGeom>
          <a:ln w="0">
            <a:noFill/>
          </a:ln>
        </p:spPr>
      </p:pic>
      <p:sp>
        <p:nvSpPr>
          <p:cNvPr id="634" name="WordArt 6"/>
          <p:cNvSpPr txBox="1"/>
          <p:nvPr/>
        </p:nvSpPr>
        <p:spPr>
          <a:xfrm>
            <a:off x="4343400" y="144792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аницы "Азбуки"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Задание на дом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о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я № 34, 37 в рабочей тетрад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полнительно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нать об отдыхе и труде основных слоев населения Московского государства в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VI-XVII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к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7" descr="andrei_rublev"/>
          <p:cNvPicPr/>
          <p:nvPr/>
        </p:nvPicPr>
        <p:blipFill>
          <a:blip r:embed="rId1"/>
          <a:stretch/>
        </p:blipFill>
        <p:spPr>
          <a:xfrm>
            <a:off x="420840" y="189000"/>
            <a:ext cx="3522600" cy="4419360"/>
          </a:xfrm>
          <a:prstGeom prst="rect">
            <a:avLst/>
          </a:prstGeom>
          <a:ln w="0">
            <a:noFill/>
          </a:ln>
        </p:spPr>
      </p:pic>
      <p:sp>
        <p:nvSpPr>
          <p:cNvPr id="593" name="WordArt 8"/>
          <p:cNvSpPr txBox="1"/>
          <p:nvPr/>
        </p:nvSpPr>
        <p:spPr>
          <a:xfrm>
            <a:off x="228600" y="4724280"/>
            <a:ext cx="417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Андрей Рублёв</a:t>
            </a:r>
            <a:endParaRPr b="1" lang="en-US" sz="1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990720" y="5486400"/>
            <a:ext cx="2438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сский живописе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Picture 3" descr="8_1"/>
          <p:cNvPicPr/>
          <p:nvPr/>
        </p:nvPicPr>
        <p:blipFill>
          <a:blip r:embed="rId4"/>
          <a:stretch/>
        </p:blipFill>
        <p:spPr>
          <a:xfrm>
            <a:off x="4840200" y="2243160"/>
            <a:ext cx="3511800" cy="4352760"/>
          </a:xfrm>
          <a:prstGeom prst="rect">
            <a:avLst/>
          </a:prstGeom>
          <a:ln w="0">
            <a:noFill/>
          </a:ln>
        </p:spPr>
      </p:pic>
      <p:sp>
        <p:nvSpPr>
          <p:cNvPr id="596" name="WordArt 2"/>
          <p:cNvSpPr txBox="1"/>
          <p:nvPr/>
        </p:nvSpPr>
        <p:spPr>
          <a:xfrm>
            <a:off x="4419720" y="91440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кона "Троица"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WordArt 2"/>
          <p:cNvSpPr txBox="1"/>
          <p:nvPr/>
        </p:nvSpPr>
        <p:spPr>
          <a:xfrm>
            <a:off x="4572000" y="1066680"/>
            <a:ext cx="4572000" cy="109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ергий Радонежский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98" name="Picture 3" descr="file23at26"/>
          <p:cNvPicPr/>
          <p:nvPr/>
        </p:nvPicPr>
        <p:blipFill>
          <a:blip r:embed="rId3"/>
          <a:stretch/>
        </p:blipFill>
        <p:spPr>
          <a:xfrm>
            <a:off x="228600" y="762120"/>
            <a:ext cx="4357800" cy="521964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4"/>
          <p:cNvSpPr/>
          <p:nvPr/>
        </p:nvSpPr>
        <p:spPr>
          <a:xfrm>
            <a:off x="5029200" y="2590920"/>
            <a:ext cx="370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атель и настоятель Троице-Сергиева монастыр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WordArt 2"/>
          <p:cNvSpPr txBox="1"/>
          <p:nvPr/>
        </p:nvSpPr>
        <p:spPr>
          <a:xfrm>
            <a:off x="0" y="533520"/>
            <a:ext cx="5029200" cy="124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Дмитрий Донской</a:t>
            </a:r>
            <a:endParaRPr b="1" lang="en-US" sz="16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304920" y="2438280"/>
            <a:ext cx="4356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ий князь Московский и Владимирский, сын Ивана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Picture 5" descr=""/>
          <p:cNvPicPr/>
          <p:nvPr/>
        </p:nvPicPr>
        <p:blipFill>
          <a:blip r:embed="rId3"/>
          <a:stretch/>
        </p:blipFill>
        <p:spPr>
          <a:xfrm>
            <a:off x="5029200" y="609480"/>
            <a:ext cx="37656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WordArt 2"/>
          <p:cNvSpPr txBox="1"/>
          <p:nvPr/>
        </p:nvSpPr>
        <p:spPr>
          <a:xfrm>
            <a:off x="152280" y="457200"/>
            <a:ext cx="883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ван III Васильевич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4" name="Picture 3" descr="ioann3Russ_001"/>
          <p:cNvPicPr/>
          <p:nvPr/>
        </p:nvPicPr>
        <p:blipFill>
          <a:blip r:embed="rId3"/>
          <a:stretch/>
        </p:blipFill>
        <p:spPr>
          <a:xfrm>
            <a:off x="304920" y="1371600"/>
            <a:ext cx="4400280" cy="489600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4"/>
          <p:cNvSpPr/>
          <p:nvPr/>
        </p:nvSpPr>
        <p:spPr>
          <a:xfrm>
            <a:off x="4788000" y="1700280"/>
            <a:ext cx="435600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ий князь Московский, сын Василия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нем сложилось единое Российское государство, было свергнуто монголо-татарское иго</a:t>
            </a:r>
            <a:r>
              <a:rPr b="1" lang="ru-RU" sz="3200" spc="-1" strike="noStrike">
                <a:solidFill>
                  <a:srgbClr val="ffffff"/>
                </a:solidFill>
                <a:latin typeface="CyrillicGoth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WordArt 2"/>
          <p:cNvSpPr txBox="1"/>
          <p:nvPr/>
        </p:nvSpPr>
        <p:spPr>
          <a:xfrm>
            <a:off x="5562720" y="457200"/>
            <a:ext cx="33382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ская изба</a:t>
            </a:r>
            <a:endParaRPr b="1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внутри </a:t>
            </a:r>
            <a:endParaRPr b="1" lang="en-US" sz="4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7" name="Picture 4" descr="home"/>
          <p:cNvPicPr/>
          <p:nvPr/>
        </p:nvPicPr>
        <p:blipFill>
          <a:blip r:embed="rId5"/>
          <a:srcRect l="0" t="0" r="0" b="1058"/>
          <a:stretch/>
        </p:blipFill>
        <p:spPr>
          <a:xfrm>
            <a:off x="228600" y="228600"/>
            <a:ext cx="5197320" cy="32767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3" descr="alapaevsk9"/>
          <p:cNvPicPr/>
          <p:nvPr/>
        </p:nvPicPr>
        <p:blipFill>
          <a:blip r:embed="rId6"/>
          <a:stretch/>
        </p:blipFill>
        <p:spPr>
          <a:xfrm>
            <a:off x="3886200" y="3276720"/>
            <a:ext cx="5033880" cy="332244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6"/>
          <p:cNvSpPr/>
          <p:nvPr/>
        </p:nvSpPr>
        <p:spPr>
          <a:xfrm>
            <a:off x="0" y="6250320"/>
            <a:ext cx="396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Рассмотрите избу, её убранство.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Опишите, как выглядит изба внутр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" descr="08220214"/>
          <p:cNvPicPr/>
          <p:nvPr/>
        </p:nvPicPr>
        <p:blipFill>
          <a:blip r:embed="rId1"/>
          <a:stretch/>
        </p:blipFill>
        <p:spPr>
          <a:xfrm>
            <a:off x="228600" y="228600"/>
            <a:ext cx="4626000" cy="3467160"/>
          </a:xfrm>
          <a:prstGeom prst="rect">
            <a:avLst/>
          </a:prstGeom>
          <a:ln w="0">
            <a:noFill/>
          </a:ln>
        </p:spPr>
      </p:pic>
      <p:sp>
        <p:nvSpPr>
          <p:cNvPr id="611" name="WordArt 3"/>
          <p:cNvSpPr txBox="1"/>
          <p:nvPr/>
        </p:nvSpPr>
        <p:spPr>
          <a:xfrm>
            <a:off x="4967280" y="762120"/>
            <a:ext cx="4176720" cy="16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ская изба </a:t>
            </a:r>
            <a:endParaRPr b="1" lang="en-US" sz="1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2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наружи</a:t>
            </a:r>
            <a:endParaRPr b="1" lang="en-US" sz="12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2" name="Picture 4" descr="kizhi6"/>
          <p:cNvPicPr/>
          <p:nvPr/>
        </p:nvPicPr>
        <p:blipFill>
          <a:blip r:embed="rId7"/>
          <a:srcRect l="0" t="0" r="14724" b="15039"/>
          <a:stretch/>
        </p:blipFill>
        <p:spPr>
          <a:xfrm>
            <a:off x="3505320" y="3048120"/>
            <a:ext cx="541008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9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18c7b"/>
                </a:solidFill>
                <a:latin typeface="Arial Rounded MT Bold"/>
              </a:rPr>
              <a:t>Люди Московского государства славились своим трудолюбием, мастерством и мудростью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1080" y="6445080"/>
            <a:ext cx="50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А что за люди тогда жили?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формулируйте тему уро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512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4a"/>
                </a:solidFill>
                <a:latin typeface="Monotype Corsiva"/>
              </a:rPr>
              <a:t>Земля и люди </a:t>
            </a:r>
            <a:br>
              <a:rPr sz="8800"/>
            </a:br>
            <a:r>
              <a:rPr b="1" lang="ru-RU" sz="8800" spc="-1" strike="noStrike">
                <a:solidFill>
                  <a:srgbClr val="ffff4a"/>
                </a:solidFill>
                <a:latin typeface="Monotype Corsiva"/>
              </a:rPr>
              <a:t>Московского государства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4:09:24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